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83C1-901E-4E79-8F1E-C22113CD0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6A50-C7B3-45E8-8741-950C2D315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FFF5-4BF0-40ED-916D-FD687D261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415A-948C-4D15-BB4B-3DE4749FC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95F8-D968-4FEA-B395-6F9EFF6C4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D4B5-7883-4BED-8466-6AE39263D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BAB9-BEAF-4BDC-A529-6A09FE0D4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DEBD-92F0-4118-B46E-2E6DF866C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D43F-D4ED-49E6-A053-A0006FE9A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ED6C-9D45-4B07-8504-FDD4B31AE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4709-1B1A-498F-9D09-6C0AF9C23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C5A6-E2CD-4F80-8556-0D982DC72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53AC-C7E5-401E-949B-BEC3D8FFC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62B4-B4D9-4AAB-BBB2-8B2809E27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2C11-A958-4BB7-A68B-C13C193B2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7B85-B352-447E-965F-7C82A5495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AC4C-A152-4A04-A416-BD02ED149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6AF3-EEB3-40D9-AA3E-069ECCDB2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23C9-31A6-4315-9D19-3030C8F00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КОВИ ПРОТИВ ВИРУСА И ГЉИ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Драган Р. Милован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МФОТЕРИЦИН 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кроциклични лактон (полиен), С12 и ви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дрофилни и хидрофобни део, не ресорбује 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родна супстанца, коју синтетише актиномице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es nodo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ује се за ергостерол - иреверзибилно оштећење мемб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ок антимикробни спектар (први изб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ентерални облик са липозомима – направљен да би се смањила токсичност (молекули амфотерицина су затворени у сићушним лоптицама од фосфолипида - липозоми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сока токсич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ицијална фебрилна реа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фротоксичност, мијелотоксич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ФЛУЦИТОЗ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риват флуорираних пипеми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метабол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рађује се у ДНК и инхибира тимидилат-синтет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к избора за хромобластомик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осталих гљивица у комбинацији (амфотериц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патотоксичан и мијелотоксичан (</a:t>
            </a:r>
            <a:r>
              <a:rPr b="0" lang="sr-CS" sz="2400" spc="-1" strike="noStrike">
                <a:solidFill>
                  <a:srgbClr val="2f2b20"/>
                </a:solidFill>
                <a:latin typeface="Arial"/>
              </a:rPr>
              <a:t>посебно код болесника са АИДС-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2b20"/>
                </a:solidFill>
                <a:latin typeface="Arial"/>
              </a:rPr>
              <a:t>Доза 150-200 мг/кг дневно, подељено у 4 оралне д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хиноканди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спофунгин, микафунгин и анидулафунги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хибирају синтезу глуканске компоненте ћелијског зида гљив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спофунгин се примењује интравенски за лечење резистентних форми системских кандидијаза и  аспергилоз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жељена дејства каспофунгина су: мучнина, повраћање, повишена температура, црвенило лица, анемија и оштећење јет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идулафунгин и микафунгин имају мање нежељених дејстава од каспофунгина, и ређе ступају у интеракције са другим леков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идулафунгин се дуже задржава у организму од остала два ехинокандина, и једини се разграђује спонтаном хидролизом у жучним путев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ГРИЗЕОФУЛВ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ентрише се у кератиноцити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штећује микротубуле и Р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некад тешка нежељена деј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тра, ЦНС, костна ср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тосензитиван, тератоген (6 месеци), тригоник (алкохол), индуктор ен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ално: опсежне микозе косе и ноктију, коже (1-15 месец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РБИНАФ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риват алила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ам дејства: Инхибира сквален-епоксид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мулација сквалена (токс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кације: Дермато- и онихомикозе (12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и се орално или лок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жељена дејства: Добро се подноси, нема интеракције C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ске реакције, централни ефекти, крвне дискра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ЛОКАЛНИ АНТИМИКОТИ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золи (већина сувише токсична системс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лотримазол, еконазол, кетоконаз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стат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руги (сличне ефикасност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олнафтат, нафтифин, циклопироксоламин, ундециленска кисел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генцијана, селен-сулфид, јодиди, акри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мбиновани препара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итфилдова маст (кератолитик, антимикоти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761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ензоева и салицилна кисел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ИСТАТ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олован из стрептомицета, поли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ује као амфотерицин Б, не ресорбује 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потреба: површинска кандидиј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но дејство: локални препарати и табл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ктично без нежељених деј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ЛОКАЛНЕ МИК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рматофите (Trychophyton, Microsporum, Epidermophy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inea corporis, cruris, ped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um, ungu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итиријазис (tinea) верзиколор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tirosporium orbicul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ритразма (Nocardia s. Actinomyces minut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укокутана кандидијаза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Candida sp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ЛОКАЛНЕ МИКОЗЕ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ско 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спех локалне 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ширеност инфекције (милтипли локу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ихоми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 поглавин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ea capit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лни азоли: итраконазол, флукон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бинаф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изеофул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ЧЕЊЕ ЛОКАЛНИХ МИК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ни антимикотик, 1-2 пута днев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онихија и интертриго, 3-4 пута дне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жина лечења 2-3 или 4-6 неде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жна и подлога: крем и лоси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Гљивице и мик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икробиолог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уђи: трихофитон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васнице: криптококус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иморфне: кандида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линичка слика (микоз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окалне (кожа и слузнице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дерматофитије (тинеа), онихомикоз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стемске/инвазивне (крв и унутрашњи органи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аспергилоза, хистоплазмоза, кандидемија и д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икозе поткожног тки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мицетоми (Мадура стопало), зигомикозе и д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ФЕБРИЛНА НЕУТРОПЕН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ће последица имуносупресивне 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ебрилнос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38ºC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неутропенија &lt; 2.0x10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спех 5-дневне терапије антибиотицима широког спек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ентерална примена антимико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мфотерицин, Каспофунгин, Флуконазол, Ворикон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ЛЕКОВИ ПРОТИВ ВИР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тогени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РНК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 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арена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проузроковачи менингитиса и Ласа грознице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хепацивирус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хепатитис Ц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ортомиксо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рип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арамиксо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у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шк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мале богиње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икорна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респираторне инфекције, менингитис, полиомијелитис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рабдо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беснило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вирус рубел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ретро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проузроковач СИДА-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тогени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ДНК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 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адено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проузроковачи упале вежњаче и респираторних инфекција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хепадна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хепатитис Б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херпес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херпес усана и гениталних органа, херпе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остер, овч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боги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цитомегаловирус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апилома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кондиломи) и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окс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боги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75e47"/>
                </a:solidFill>
                <a:latin typeface="Arial"/>
              </a:rPr>
              <a:t>ЛЕКОВИ ЗА ИНФЕКЦИЈЕ ХЕРПЕС ВИРУСИМА</a:t>
            </a:r>
            <a:br>
              <a:rPr sz="3200"/>
            </a:br>
            <a:r>
              <a:rPr b="0" i="1" lang="sr-RS" sz="3200" spc="-1" strike="noStrike">
                <a:solidFill>
                  <a:srgbClr val="000000"/>
                </a:solidFill>
                <a:latin typeface="Arial"/>
              </a:rPr>
              <a:t>Ациклов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о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уринских нуклеозида гуанозина, који се у ћелији домаћина фосфорилиш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о трифосфата, а затим инхибирају вирусну ДНК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имер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дикације: генерализоване инфекције херпес вирусом, рецидивантне инфекције гениталним херпесом, инфекције вирусом херпес зостер (само код тешких случајева овчијих богиња или херпес зосте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омплетно се ресорбује у ГИТ-у, добро продире у сва ткива и телесне течности, плаценту и мле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лучује се преко бубрега (гломеруларном филтрацијом и тубуларном секрецијом), већим делом неизмењ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жељена дејства: главобоља, мучнина и пролив, ређе осећај умора, пораст температуре, депресију, конфузију, конвулзије и алопецију; нефротоксичан код и.в.прим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за је 200-800мг/5 часова орално, или 15 мг/кг/ дан и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000000"/>
                </a:solidFill>
                <a:latin typeface="Arial"/>
              </a:rPr>
              <a:t>Валациклов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-лек, одлично се апсорбује, а затим у јетри и цревном зиду претвара у ацикловир и тако постиже серумске концентрације ацикловира 3 до 5 пута више од оних након примене самог ациклови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ењује се 500 мг на 12 часова, оралн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ндикације: рецидивантни генитални херпес и умерено тешки облик херпес зостер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4000" spc="-1" strike="noStrike">
                <a:solidFill>
                  <a:srgbClr val="000000"/>
                </a:solidFill>
                <a:latin typeface="Arial"/>
              </a:rPr>
              <a:t>Идоксиуридин и трифлурид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Идоксиуридин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хибира ДНК полимер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римењује се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локално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у терапији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фекција ока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изазваних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ерпес симплексом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(токсичан при системској примен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Трифлуриди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луорирани пиримидински нуклеозид, који после фосфорилације инхибира претварање деокси-уридин монофосфата у деокситимидин монофосфат, а затим конкурише са деокситимидин трифосфатом за уградњу у ДНК вируса и ћелије домаћ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ти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с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локално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за лечењ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ератокоњунктивитис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азваног херпес вирусима тип 1 и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а лека после дуже употребе могу изазвати замућење рожњач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600" spc="-1" strike="noStrike">
                <a:solidFill>
                  <a:srgbClr val="000000"/>
                </a:solidFill>
                <a:latin typeface="Arial"/>
              </a:rPr>
              <a:t>Пенцикловир и фамциклов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енциклов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ациклични аналог гуанозина, који делује истим механизмом као ацикловир на синтезу ДНК херпес виру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сти се само локално за лечење херпеса на усн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Фамциклов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про лек (диацетил естар пенцикловира), који се после апсорпције претвара у јетри у пенциклов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(Б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77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ује за протеине плазме (20%) и добро продире у сва ткива. Елиминише се преко бубрега, као неизмењен лек, гломеруларном филтрацијом и тубуларном секрециј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мцикловир доводи до бржег престанка бола код херпес зостера него ацикловир (доза фамцикловира: 500мг / 8 часова, орал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азива конфузију, халуцинације, а ретко супресију костне сржи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крштена резистенц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важи за ацикловир, валацикловир и фамцикловир (нема је нема са фоскарнетом и цидофови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600" spc="-1" strike="noStrike">
                <a:solidFill>
                  <a:srgbClr val="000000"/>
                </a:solidFill>
                <a:latin typeface="Arial"/>
              </a:rPr>
              <a:t>Цидофови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Цидофов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ациклични аналог цитозина, инхибира активност вирусне ДНК полимер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о се апсорбује, примењује се интравенс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лучује се неизмењен у урину (Т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2.5 сата), али се знатно дуже задржава унутар ћелија, везан за фосфохо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лечење херпес симплекс инфекција које су резистентне на ацикловир, за превенцију и лечење цитомегаловирусног рети-нитиса код особа са СИДА-ом (5мг/кг интравенски, једном не-дељно), за лечење кондилома (Condylomata accumina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дофовир је нефротоксичан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ативно често изазива предњи увеитис и неутропенију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анконије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000000"/>
                </a:solidFill>
                <a:latin typeface="Arial"/>
              </a:rPr>
              <a:t>Фоскарн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органско једињење, аналог пирофосфата, који некомпетитивно инхибира вирусну ДНК полимер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њује се само интравенски; у малом проценту се везује за протеине плазме, и одлично продире у многа ткива и телесне течности (нпр. у стакласто тело ока). Накупља у костима, услед чега се из организма споро елимини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лечење цитомегаловирусног ретинитиса код пацијената са СИДА-ом, и за лечење инфекција херпес вирусом или варичела-зостер вирусом резистентним на ациклов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Д: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фротоксич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ост (превенција је добра хидрираност болеаника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окалцеми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хипокалеми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хипомагнезијеми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хипофосфатеми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4400" spc="-1" strike="noStrike">
                <a:solidFill>
                  <a:srgbClr val="000000"/>
                </a:solidFill>
                <a:latin typeface="Arial"/>
              </a:rPr>
              <a:t>Докосан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голанчани, засићени алкохол, који спречава улазак вируса у ћелије тако што инхибира фузију омотача вируса са мембраном ћелије домаћ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кључиво локално у третману инфекције херпес симплекс вирусом (за херпес усан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вид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10%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парата за локалну примену еф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сан је ако се примени у продромалној фази- унутар 12 сати од првих симптома и наредних 5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поређењу са плацебом време зацељивања лезија рекурентног лабијалног херпеса се скраћује за 18 с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ма нежељених дејстава, па се издаје без рецеп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Лекови против вируса гри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руси инфлуенце типа  А и Б изазивају значајно обољење код љу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Амантад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 синтетски трициклични амин, а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римантад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његов алфа-метил дерив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хибирају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онски канал у мембрани вируса инфлуенце тип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док на тип Б слабо делу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 се ови лекови примене у року од 48 часова од почетка симптома, трајање повишене температуре и тегоба се скраћује за 1-2 дана, али нема доказа да ови лекови спречавају настанак комплик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мантадин и римантадин могу и да спрече настанак инфекције инфлуенцом А код 70 – 90% пациј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мантадин је токсичнији лек од римантадина - изазива депресију, конфузију, анксиозност и психомоторну инкоординацију, кардиоваскуларну токсичност и антимускаринска деј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НТИМИКОТИ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нородна фармаколошк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ијска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 увођења у клиничку прак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гљивични спек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 примене (фармацеутски обл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Лекови против вируса гри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900" spc="-1" strike="noStrike">
                <a:solidFill>
                  <a:srgbClr val="2f2b20"/>
                </a:solidFill>
                <a:latin typeface="Arial"/>
              </a:rPr>
              <a:t>Занамивир и оселтамивир - </a:t>
            </a: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 инхибитори вирусне неураминидаз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900" spc="-1" strike="noStrike">
                <a:solidFill>
                  <a:srgbClr val="2f2b20"/>
                </a:solidFill>
                <a:latin typeface="Arial"/>
              </a:rPr>
              <a:t>Занамивир</a:t>
            </a: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 примењује се путем инхалације и око 15% се апсорбује у крв и излучује неизмењено преко бубрег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Занамивир се користи за лечење (скраћује трајање болести за 1 дан) и профилаксу инфекције инфлуенцом А и Б, али само код пацијената старијих од 7 годин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2f2b20"/>
                </a:solidFill>
                <a:latin typeface="Arial"/>
              </a:rPr>
              <a:t>Оселтамивир</a:t>
            </a: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 - Примењује се орално, добро се апсорбује, па се по-том у јетри претвара у активан облик оселтамивир карбоксила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Делује добро на инфлуенцу А и Б; у лечењу се користи код деце старије од годину дана и одраслих, а у превенцији се користи само код особа старијих од 13 годин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Смањује трајање симптома за пола дана и смањује учесталост компликациј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Може да спречи настанак инфекције вирусом инфлуенце код 90% изложених особ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Терапиј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индрома стечене имунодефицијенције (СИДА, АИДС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 терапије је смањење броја вируса у организму пре него што настане неповратно оштећење имунолошког сист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ена лекова се започиње када је број ЦД4 лимфоцита мањи од 350/</a:t>
            </a:r>
            <a:r>
              <a:rPr b="0" lang="sr-C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, а број вирусних честица већи од 50.000/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век се примењује комбинација лекова који делују на различите начине на ХИВ виру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 сада постоји 6 група анти-ХИВ леков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75e47"/>
                </a:solidFill>
                <a:latin typeface="Arial"/>
              </a:rPr>
              <a:t>Терапија </a:t>
            </a:r>
            <a:r>
              <a:rPr b="0" lang="en-US" sz="3600" spc="-1" strike="noStrike">
                <a:solidFill>
                  <a:srgbClr val="675e47"/>
                </a:solidFill>
                <a:latin typeface="Arial"/>
              </a:rPr>
              <a:t>синдрома стечене имунодефицијенције (СИДА, АИДС</a:t>
            </a:r>
            <a:r>
              <a:rPr b="0" lang="sr-RS" sz="3600" spc="-1" strike="noStrike">
                <a:solidFill>
                  <a:srgbClr val="675e47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уклеозидни инхибитори реверзне транскрип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уклеотидни инхибитори реверзне транскрип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-нуклеозидни инхибитори реверзне транскрип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хибитори проте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хибитори уласка вируса у лимфоц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хибитори вирусне интегр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 се користи комбинација 2 нуклеозидна инхи-битора са једним не-нуклеозидним инхибитором или једним инхибитором протеазе - таква комбинација се назива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високо-активна антиретровирусна терапија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уклеозидни инхибитори реверзне транскриптаз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9807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ћелијама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сфорилишу до трифосфатне форме, а онда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 дејством реверзне транскриптазе уграђ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 ДНК вирус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; 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де до прекида раста ланца вирусне ДНК, спречавајући даље размножавање вир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идовудин, ставудин, диданозин (у профилакси), ламивудин, 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трицитаб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луоро дериват ламивудин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, абакавир,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лцитаби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што инхибирају и ДНК полимеразу у митохондријама, могу изазвати лактат ацидозу, стеатозу јетре и њено уве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ериферна неуропатија, панкреатитис, мијелотоксичност, хиперпигментација дланова и таб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уклеотидни инхибитори реверзне транскриптаз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нофовир дизопроксил фума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лек, који се у организму претвара у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нофов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нуклеозидни аналог адено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фикасан у терапији СИДА-е и када се развије резистенција на нуклеозидне инхибиторе реверзне транскрип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а малу биоискористљивост после оралне примене (25%), не метаболише се, и неизмењен се излучује преко 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лично се подноси, не делује токсично на митохондрије као нуклеозидни инхибито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Не-нуклеозидни инхибитори реверзне транскриптаз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ректно инхибирају активност вирусне реверзне транскриптазе, делујући адитивно са нуклеозидним инхибитор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када се не користе сами (због брзог развоја резистенције) већ само заједно са нуклеозидним инхибитори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фавиренц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- за терапију СИДА-е и за профилаксу инфек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азива оспу и пораст ензима јетре и холестерола у серуму. Централни ефекти: несаница, еуфорија, агитација, поремећај мишљења, ноћне море и халуцин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дукује ЦИП3А4, а инхибира ЦИП2Ц9 и ЦИП2Ц19 - бројне интерак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вирап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 за лечење СИДА-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жак хепатитис и/или Стивен-Џонсонов синдром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лавирд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 за терапију СИДА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травирин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 и Рилпивирин -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виј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е-нуклеозидне инхибитор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верзне транскрипта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хибитори вирусне протеаз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терапији СИДА-е, увек у комбинацији са осталим лек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азивају ГИТ тегобе и парестезије, доводе до хипергликемије и инсулинске резистенције, и изазивају хиперлипидемиј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аболизам у јетри под дејством ЦИП3А4 – бројне интерак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Рито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је најтоксичнији, и има највише интеракција (инхибира ЦИП3А4 и ЦИП2Д6 и индукује ЦИП1А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Инди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- изазива нефролитијазу, посебно код де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Нелфи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је најмање токсичан од свих инхибитора протеазе, али може изазвати дијаре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Ампре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- у виду раствора за оралну примену, који садржи много 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пропилен гликол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 не сме давати деци млађој од 4 год.) 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Фосампре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је про-лек, који се претвара у ампренав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Саквинавир, лопинавир, дарунавир и атаза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Типра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је новији инхибитор протеазе који се даје код резистенције на друге лекове из ове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хибитори уласка вируса у лимфоци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Енфувиртид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речава улазак ХИВ вируса у лимфоците блокадом вирусног трансмембранског протеин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гп41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оји омогућава фузију мембране вируса са мембраном лимфо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њује се паренетер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Маравиро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блокира хемокинске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ЦЦР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рецептора на лимфоцитима за гликопроте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њује се ор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Оба лека примењују се само као додатна терапија уз инхибиторе реверзне транскриптазе, код пацијената који нису добро реаговали на примарну терап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хибитори вирусне интегра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Ралтеграви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елвитегравир и долутеграви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су инхибитори вирусне интегразе, ензима који уграђује вирусну ДНК у хромозоме домаћина, и тиме омогућава репликацију виру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мењују се орално,  у комбинацији са другим антиретровирусним лековима, за лечење болесника у свим стадијумима боле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што се метаболишу на цитохромима, елвитегравир и долутегравир ступају и интеракције са другим лековима, док то није случај са ралтегравиром, који се у јетри само коњугу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лтегравир може изазвати миопатију и рабдомиоли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лутегравир делује на неке сојеве вируса који су резистентни на ралтегравир и елвитеграви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ерапија Хепатитиса 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епатитис Б  - ДНК вирус који се размножава у хепатоцити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ва терапијска линија - пегиловани интерферон алфа, ентекавир и тенофовир дизопроксил фума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"пегилирани" интерферон </a:t>
            </a:r>
            <a:r>
              <a:rPr b="1" lang="sr-C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коњугат интерферона </a:t>
            </a:r>
            <a:r>
              <a:rPr b="0" lang="sr-C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монометокси полиетилен гликола је депо-препарат, који се може примењивати једном недељно, потк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нтекав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аналог гуанозина који омета функционисање вирусне ДНК полимер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енофовир дизопроксил фумара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нуклеотидни аналог аденозин монофосфата који инхибира реверзну транскриптазу и ДНК полимеразу вируса хепатитиса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Телбивуд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аналог тимидина, који се после фосфорилације уграђује у ДНК вируса хепатитиса 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амивудин и адефовир</a:t>
            </a:r>
            <a:r>
              <a:rPr b="1" i="1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– у другој терапијској лин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 хроничне форме хепатитиса Б траје најмање годину д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НТИМИКОТИЦИ ЗА СИСТЕМСКУ ПРИМЕ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золи: имидазоли и триазоли (кетоконазол, итраконазол, флуконазол, миконазол, вориконазол, посиконазо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иени: амфотериц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луцито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хиноканди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каспофунгин, микафунг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АЗ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идаз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етоконазол, миконазол, клотрим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иаз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траконазол, флуконазол, ворикон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икаснији, слабија резист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ља фармакокинетика и поднош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АЗО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хибирају цитохром Р450 (деметилаза) и синтезу ерго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штећују мембрану гљив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хибиција АТР-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еракције ле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ирок спектар антигљивичног деј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фикасни у локалној и системској при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ЗОЛИ -фармакокин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ожена фармакокинетика, специфична за л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иселост, храна и лекови утичу на аспорп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ирока дистрибуција, ограничен продор у ЦНС (флуконазо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иминација преко јетре или бубре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ни и/или системски препар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ЗОЛИ –нежељена деј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бро се подносе, релативно безбе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епатотоксичност (ретко али опас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хибиција синтезе андрогена и кортизола (више доз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ритмије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Tc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срчана инсуфицијенција (итраконаз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ције локалне подношљ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руга дејства (специфично за ле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ОПРЕЗ КОД АЗ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едности јетрeних ензима (АЛТ, АС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 почетка, после 14 дана а потом месе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начајне вредности изнад 3 пута од горњег лимита реф.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терапије азолима објаснити пацијенту да се хитно јави лекару на поја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уке, гађења, повраћања, малаксалости, бола у трбуху, тамног у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8-09-09T19:42:58Z</dcterms:modified>
  <cp:revision>20</cp:revision>
  <dc:subject/>
  <dc:title>Slide 1</dc:title>
</cp:coreProperties>
</file>